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10.jpeg" ContentType="image/jpeg"/>
  <Override PartName="/ppt/media/image9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8.wmf" ContentType="image/x-wmf"/>
  <Override PartName="/ppt/media/image12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556-FFE9-4150-BAA4-94C2639C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5ED-98EA-4A12-87A9-BAF78690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EE7-97C4-4892-8494-ACC5132B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691-1B1B-4343-B456-2EEA5AC3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FB4F-321F-4758-9FD4-BB6DA52E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1A7C-7C51-4577-9FCD-52E08368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4023-8392-4BBD-8843-7126C9F0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F3BF-11D4-4C6C-B0B1-2BD0A1FA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E298-CC1B-4140-8AF9-8768EA19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8BBE-BDE5-4C6F-8715-C3F2DEB8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2867-F5B7-43C5-A3BE-D59C178F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10D-50B8-4E9B-9DAC-03F61FA7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65FF-90FF-498E-A302-534AA38A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FD81-A195-4638-96F9-71FF50BF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F659-0C44-457B-A843-5DB56C52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86AA-50A1-4EBD-8E56-6A66D1BD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F9FC-195B-4568-BE46-4C0C4309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4A0-2D07-47AC-9D7D-8710AA11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CF4-7A46-4FE2-8380-1AB1E4FD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F3D-3119-4C9A-8251-6110E229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F5D-3107-493C-9E98-81A72B3B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130-BE24-4D4F-804D-6B62063C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8EF-83C6-4D0C-8D58-D55A745E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87B-2C71-4AFA-837E-6C9C0C10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4d3b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674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6354-3DF6-4BAE-9AB5-BA84221BB0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46352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674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8020-021D-4FFB-9B6B-A14A746CCF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8b27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50states.com/arizona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hyperlink" Target="http://bensguide.gpo.gov/3-5/state/arizona.htm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hyperlink" Target="http://www.50states.com/tree/arizona.htm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981080" y="533520"/>
            <a:ext cx="56390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"/>
              </a:rPr>
              <a:t>Arizona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"/>
              <a:ea typeface="comic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4876920"/>
            <a:ext cx="297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30/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#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80880" y="3124080"/>
            <a:ext cx="5334120" cy="3733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914400" y="685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1295280"/>
            <a:ext cx="16002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icrosoft Sans Serif"/>
              </a:rPr>
              <a:t>50 State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Microsoft Sans Serif"/>
              </a:rPr>
              <a:t>Arizona song</a:t>
            </a:r>
            <a:r>
              <a:rPr b="0" lang="en-US" sz="1200" spc="-1" strike="noStrike">
                <a:solidFill>
                  <a:srgbClr val="ffffff"/>
                </a:solidFill>
                <a:latin typeface="Microsoft Sans Serif"/>
              </a:rPr>
              <a:t>,10/7/2010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Microsoft Sans Serif"/>
                <a:hlinkClick r:id="rId5"/>
              </a:rPr>
              <a:t>www.50states.com/ariz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6348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name: Ariz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ital: phoen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population: 4,075,00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e entered: Feb. 14, 191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o: "God enriches"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kname: “the grand canyon state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bird: cactus wr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flower: Saguaro Cactus bloss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number: 22 state to joi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ther: hot, dry, sun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song: “Arizon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97560" y="0"/>
            <a:ext cx="2746440" cy="1498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19920" y="2743200"/>
            <a:ext cx="2563560" cy="3505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4672080" cy="3352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0880" y="4419720"/>
            <a:ext cx="2328840" cy="1825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581280" y="3581280"/>
            <a:ext cx="2005200" cy="2819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029200" y="228600"/>
            <a:ext cx="990720" cy="1436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3880" y="3581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6324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649116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6400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1828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1752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Arizona: Map and State Flag"/>
          <p:cNvPicPr/>
          <p:nvPr/>
        </p:nvPicPr>
        <p:blipFill>
          <a:blip r:embed="rId1"/>
          <a:srcRect l="3325" t="0" r="3325" b="71122"/>
          <a:stretch/>
        </p:blipFill>
        <p:spPr>
          <a:xfrm>
            <a:off x="609480" y="990720"/>
            <a:ext cx="213372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Arizona: Map and State Flag"/>
          <p:cNvPicPr/>
          <p:nvPr/>
        </p:nvPicPr>
        <p:blipFill>
          <a:blip r:embed="rId2"/>
          <a:srcRect l="0" t="40003" r="0" b="0"/>
          <a:stretch/>
        </p:blipFill>
        <p:spPr>
          <a:xfrm>
            <a:off x="5867280" y="137160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19320" y="5029200"/>
            <a:ext cx="72388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n’s guide to U.S.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quick fac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October1,2010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bensguide.gpo.gov/3-5/state/arizona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33920" y="6324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1371600" cy="3657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1409760" cy="365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315200" y="0"/>
            <a:ext cx="18288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828800" y="0"/>
            <a:ext cx="1447920" cy="3657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4648320" y="0"/>
            <a:ext cx="1333440" cy="3657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2480" y="4419720"/>
            <a:ext cx="63248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0 States Arizona state tree/October1, 2010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http://www.50states.com/tree/arizona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11:50Z</dcterms:created>
  <dc:creator>install</dc:creator>
  <dc:description/>
  <dc:language>en-US</dc:language>
  <cp:lastModifiedBy>install</cp:lastModifiedBy>
  <dcterms:modified xsi:type="dcterms:W3CDTF">2010-10-14T13:20:27Z</dcterms:modified>
  <cp:revision>10</cp:revision>
  <dc:subject/>
  <dc:title>Slide 1</dc:title>
</cp:coreProperties>
</file>